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63F-5309-440A-A4AF-7178508D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13A-C9F0-422D-9C84-33ECFB54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1E7-153F-415E-9CF1-5A14A803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BCD-F0BF-48A8-85D6-3C5A3FBA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183C-8F06-4184-BCD5-168D39B9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11C1-0710-4BB4-9EA0-BFFEF29F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B510-565D-46C4-B4E4-20E61B50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7F4E-9AF8-459E-BBB4-AF5C760F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72A1-BAB5-4934-82B6-C6C39781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78A2-22A4-4499-A42B-C0C27186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22DF-3343-4706-9E96-204ABAA0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AFA-839D-42F7-A0DD-37C97681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F345-22F5-486D-86BD-0E58B72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E621-1099-49BC-A580-5653B39B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8E4-BAEE-4070-84AC-E48D909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E855-6E59-4008-92DE-F69F8933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198B-333D-4C8D-B9FC-77AF955A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4EEF-4C95-410B-A907-16CAFA1E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E848C-8569-498A-9C0A-FD5F2FE7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C15E-1DED-484E-AD2F-228C3C23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75A7-C954-4CCC-A376-A60D7CD4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53E9-FBDC-4E6A-9314-CC0D563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136-B7B7-4B90-A024-7272C21D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BA05-DDDA-415A-A366-A25901C9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8162-5A39-4D11-B079-C5492D4D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1EAE-C902-485B-9EF8-DAEA4FB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7A30-22E9-4853-9B65-035BCF2B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D835-AE89-4687-8533-A7A57E12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DEC3-3743-4A95-8102-03156293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8947-83E0-45E9-ADC9-951EBDF3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2911-0543-4DAB-B34A-66BB9886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A625-9D96-4548-943C-9D9669A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0CEE-3C6C-4C27-A645-460DD3D0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B53-E42A-46F5-9A4B-6FFAED9D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C671-3133-4AF8-A558-6839C2BE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8CD31-30A4-46AA-8948-1243877C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FE7BB-E570-4077-BACF-BEF31F7A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D77C2-5A20-4A78-81BE-640A3EE9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6A2E-CDDE-4E30-AE39-6A0CF1E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5969C-379A-48B8-9A30-C2B39F2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415DC-6D67-4A17-A315-EF0F031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C739-F01B-4BDE-A435-939DCC21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C418-B1BF-4E48-B989-A912A8E6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E7B3-B60C-4A52-8DFD-77A16AED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66D-A856-40BC-A07F-2F40ACD8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76A5-B2F7-4AEE-AC8B-C5F1750D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F6187-3566-43F4-85DD-3232BA5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0445A-ABB8-41B3-823D-5ED643BF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5F921-62A5-41CB-B11D-67E124A6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CEC7E-404E-4D64-8527-E53B8296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C886A-8F71-4834-98F5-ACBDA183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66BA8-2217-4C1A-86D5-E38AD852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6951-79BE-47F8-A46B-4C394EE6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1DBDF-6700-4A74-96BB-6B521DE9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F483C-E13B-4D9E-8BB2-65948F47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ECF-3147-4BF4-8F71-9462E43C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01AD9-3834-4546-AB1E-EB6F60BA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90F5A-4577-4761-9C13-9A64BC99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4C85D-30AC-4914-B7A2-FBD9A9EB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F7B64-EFC3-4143-B61B-001CE498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06CC-215A-4139-8D42-685E0321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7CAB6-B9DA-43EC-9B4F-6B62FC68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5731-A0F0-4DD0-AE72-3638F1B4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FDF3A-BDB1-492A-A7BD-08D527D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732D4-92BB-4F1D-A65E-6E18EFEA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1D2FC-6819-4BA9-A417-172B7426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ABE-71F1-4BA4-B752-0A93D1B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3A2F7-02E1-49EB-97F1-07AB882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8A86-8E86-459D-8194-AC811499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56BAE-7C8B-4635-B024-29513EDC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9FE48-DB13-4C33-8DB8-26428B22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844CB-BDFD-4FFD-8CAA-72EF20FE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35DCA-F029-4A75-A5EF-F4B4665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CEA23-A8BF-4A96-8F5F-C909E714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BB53-093B-4DEE-9E7B-EBDF1438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FB5B8-14D5-48BE-AAA5-CCAD18B1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6CD6B-73DF-4732-B667-D64FA8BF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255-ED69-477D-8A6D-29C18D90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7ED38-5097-4244-9F40-D4A2935E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57EFF-4DCE-4035-8C1E-8E7017D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F9030-7E44-4779-A8DA-EAD22BC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01BA8-93D0-40E4-90C3-C0222C57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A3508-15EC-49E5-9DA1-24656D8B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DF5-C57D-45FB-AA69-B68E0A7E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A185-3650-4533-B4B5-23C9270915A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365C-2498-4413-A47A-817726E060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413-1BCE-4AD3-A314-ECFB863F774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7748-CB71-466C-8912-3DCB27859BE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D1C9-57EA-4D60-AD90-957E6A7014D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2918-655D-4737-A0F4-81C398A7D30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1C4B-0945-4B9E-8EC9-718441C4AE7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Source Water Protection Programs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formation Ite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904760"/>
            <a:ext cx="7499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ll Repor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incinnati Area Focus Gro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incinnati Source Water Protection Gro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pper River Source Water Protection Gro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72314"/>
                </a:solidFill>
                <a:latin typeface="Gill Sans MT"/>
              </a:rPr>
              <a:t>Emergency Response Programs</a:t>
            </a:r>
            <a:br>
              <a:rPr sz="31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NRC Spill Reports Jan 1</a:t>
            </a:r>
            <a:r>
              <a:rPr b="1" lang="en-US" sz="2400" spc="-1" strike="noStrike" baseline="30000">
                <a:solidFill>
                  <a:srgbClr val="572314"/>
                </a:solidFill>
                <a:latin typeface="Gill Sans MT"/>
              </a:rPr>
              <a:t>st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– August 31</a:t>
            </a:r>
            <a:r>
              <a:rPr b="1" lang="en-US" sz="2400" spc="-1" strike="noStrike" baseline="30000">
                <a:solidFill>
                  <a:srgbClr val="572314"/>
                </a:solidFill>
                <a:latin typeface="Gill Sans MT"/>
              </a:rPr>
              <a:t>st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2013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here were 138 spills reported to the Ohio Riv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o drinking water intakes adversely affect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he top 5 materials listed in these spill reports are listed below.  Together these accounted for 84% of materials listed in spill repor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.   Unknown Oil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(54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2.   Diesel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(11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3.   Hydraulic Oil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(7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4.   Waste Water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(7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5.    Fuel Oil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(5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Emergency Response Programs</a:t>
            </a:r>
            <a:br>
              <a:rPr sz="3200"/>
            </a:br>
            <a:r>
              <a:rPr b="1" lang="en-US" sz="2700" spc="-1" strike="noStrike">
                <a:solidFill>
                  <a:srgbClr val="572314"/>
                </a:solidFill>
                <a:latin typeface="Gill Sans MT"/>
              </a:rPr>
              <a:t>Cincinnati Area Focus Group</a:t>
            </a:r>
            <a:endParaRPr b="0" lang="en-US" sz="2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heduling multi-state, multi-agency on-river reconnaissance effor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ventory attributes in greater Cincinnati response area, ORM 401 – 53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is for development of Cincinnati area tactical response p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and federal response, water quality, permitting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eater Cincinnati Water Works, Northern Kentucky Water Distri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ource Water Protection</a:t>
            </a:r>
            <a:br>
              <a:rPr sz="32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Cincinnati Area Joint SWP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ing GCWW/No. KY Water District joint source water protection plan development meet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als of the plan ar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ineation of the most critical portion of the river relative to the intak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 inventory of existing potential contaminant sources within the protection z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velopment of a joint public outreach progr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velopment of contingency pla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ater quality monitoring progr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Source Water Protection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Upper Ohio River Utilities Meeting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5703840" cy="4038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066680" y="1600200"/>
            <a:ext cx="37339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oint utility/industry meetings held last ye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llow-up meeting to be held Nov.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th Ohio utilities and industr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0 industrial discharges on Ohio side; 4 &gt; 1mg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4343400" y="4049640"/>
            <a:ext cx="8380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4419720" y="1905120"/>
            <a:ext cx="16002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4267080" y="2209680"/>
            <a:ext cx="160020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4876920" y="167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alibri"/>
                <a:ea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TextBox 9"/>
          <p:cNvSpPr/>
          <p:nvPr/>
        </p:nvSpPr>
        <p:spPr>
          <a:xfrm>
            <a:off x="5715000" y="5715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alibri"/>
                <a:ea typeface="Arial"/>
              </a:rPr>
              <a:t>W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52:59Z</dcterms:created>
  <dc:creator>jerry</dc:creator>
  <dc:description/>
  <dc:language>en-US</dc:language>
  <cp:lastModifiedBy>jklear</cp:lastModifiedBy>
  <dcterms:modified xsi:type="dcterms:W3CDTF">2013-10-15T15:26:58Z</dcterms:modified>
  <cp:revision>24</cp:revision>
  <dc:subject/>
  <dc:title>Slide 1</dc:title>
</cp:coreProperties>
</file>